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C9F-7B6E-458C-AF3A-CF696494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775-EC4C-4D85-83A4-EDF1DBC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E1C-16A9-43C9-800C-E4F0E61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F80-FBB1-433E-B92D-1D59831F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4FBA-B407-451C-9DAF-EC667EF5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EB2-F120-407B-920F-564CD581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81AE-F305-411B-AD72-5E5E7CF8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D70D-7815-4A03-BE32-249954A2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E2B9-36B5-4593-9D86-784BD40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42F9-F473-4067-9CD0-5D13029F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3D69-678E-42A7-88E7-5600042E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D77-A147-407D-A84C-774139D2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0F9C-8094-44BA-B64C-86549F2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6F88-D447-4353-84D8-35C8DF0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CFBE-2C03-4217-AD6D-C51D787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EB05-E0A6-4015-A3A7-ABDBA5AD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10B3-B68F-4897-906B-5BEA6787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ADB1B-C8EF-4412-97B5-A8902FD7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33408-B1F4-4B54-872A-D32D28D2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97C42-9F7C-45A3-B27E-0E81FAF6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DF4B3-4D68-45E3-AE05-41826414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48FC9-7ACF-4381-8A17-17038F8A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9FF-45DB-4122-826E-80D1C6E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CA2CE-F88D-4C75-8708-DEE7997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865AA-12DD-4EEC-B507-80F9B20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7FB16-3D4D-4DAD-B23F-DD7B9ED6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BF5F5-8C4B-48CC-870D-49CDCB9F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A9517-B34B-4945-AE1A-C9DE325B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237CE-4B72-4794-BF3C-AFD3BED0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1726E-1B0E-4707-A2D8-1061EC06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19A2F-81D4-4666-899E-C07E8DF7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0807-742C-4EBD-A072-FC4FA026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8995-828E-47B4-AA44-CEB2DA5A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E7C-6315-4A29-A4F8-0B37DCA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023C-342B-4573-ACC4-E9909E0B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6BC7-9EFA-4A99-805B-45349F5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8368-347D-4F52-A298-814A438A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17E9-FB88-45E8-ACAF-A60BCFF4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E997-13CC-446E-87F0-BA108EB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A8A9F-63D3-4349-ABBE-69AC63B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68DC2-10D0-461A-859D-90AB4104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C962-2196-4CE3-B62D-EBA8E509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86C0-C284-48EA-8E27-6C187156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DC061-3A7D-4E56-AB99-025C8766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E02-CD68-4795-812D-FEDF8C44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875FD-259E-4832-87AA-082115EB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BC444-E572-46F6-9109-E508082B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40883-D571-41B3-B1F6-D517C6AA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13515-26E8-4198-9328-2C140423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2B3DA-7502-4A34-AD01-6266D16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F4C9F-3EA6-40AE-8C8D-89C1523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B4877-0C72-4586-BAB6-920D6965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7B54F-1793-4DE4-878A-962FA98D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514C4-E7BF-459B-96A3-33937B0E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7A176-AB2C-42F9-A84E-9CE74962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C2D-F143-40B1-952E-72DC0EF9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49D12-B39C-4C5A-B4FD-FFBD0CEC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11AAA-D0FB-4F3E-8753-B83A4FA6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929AE-E4E0-4CF4-8B3D-CFAFDDD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830C4-D857-41F7-90B0-D52C69F0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64260-A809-4074-95C9-B2762C56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27514-7109-44A4-8434-F6A61FC5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EDCF7-C452-4F96-9470-2E0EF08B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A1E15-0E76-4D8D-A49A-321D398C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97D16-B2EB-40BE-A878-9562444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5CC24-3DC7-4ED8-977A-24D5596F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EAD-B5A5-443D-BC6C-5F8EAB3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766FF-1973-419B-BA53-84A16A8D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A0B73-AC16-4A84-9809-1BA6860E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2D62A-6D4D-4A16-B966-73671577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88732-07C7-4439-A83D-941A1EA2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24ADF-2725-45B8-AAB5-AE5F3D48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AA843-0B0D-45BD-8DE1-2FEE603C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99EA3-A87A-4A9F-8B64-9D4B7FF7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45D93-FACD-4FBF-9F2A-CF1F9790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56D34-89F7-466C-896C-B9975CD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2007E-1BE6-4BDB-B081-1AC9212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8F9-6538-4C21-BD3F-D343D38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E85E9-9FF0-4B75-93DE-A283EC1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ACD02-7CF4-441F-BACB-D7A1A452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FBDD4-AA3A-4A69-8E02-061B2081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72E9E-A6B4-4763-92A3-0128A109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0A92D-0819-42F4-9F48-66BA4224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47F-3E7E-43D1-923D-56E23DB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9102-8650-4118-B43F-08A827A1ED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F86C-5013-44EC-AAEA-B5C8127EE1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D823-A07C-44EE-AEDF-1A8A14FCDE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ADE-E2F8-4064-B026-99528AD96D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07FF-AF97-40CB-BA8F-63597E9C7E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7485-92AB-4A1D-A2D3-79B6BFF161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C1B0-14C8-4B2D-8445-F345B12B03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61722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ИЗАЙН-ПРОЕКТ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ВОРОВОЙ ТЕРРИТОРИИ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В РАМКАХ РЕАЛИЗАЦИИ ПРОГРАММЫ «ФОРМИРОВАНИЕ СОВРЕМЕННОЙ ГОРОДСКОЙ СРЕДЫ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46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п.Краснооктябрьск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Ул.Перминова 5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3"/>
          <p:cNvSpPr/>
          <p:nvPr/>
        </p:nvSpPr>
        <p:spPr>
          <a:xfrm rot="5400000">
            <a:off x="6970680" y="4427640"/>
            <a:ext cx="2576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и Вожгаль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____________№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056"/>
          <p:cNvSpPr/>
          <p:nvPr/>
        </p:nvSpPr>
        <p:spPr>
          <a:xfrm>
            <a:off x="900000" y="1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акет благоустройства дворовой территории в п.Краснооктябрьский, ул.Перминова 5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4" descr="Вожгалы Схема1 Перминова 5 Б.jpg"/>
          <p:cNvPicPr/>
          <p:nvPr/>
        </p:nvPicPr>
        <p:blipFill>
          <a:blip r:embed="rId1"/>
          <a:stretch/>
        </p:blipFill>
        <p:spPr>
          <a:xfrm>
            <a:off x="250920" y="1341360"/>
            <a:ext cx="86770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2056"/>
          <p:cNvSpPr/>
          <p:nvPr/>
        </p:nvSpPr>
        <p:spPr>
          <a:xfrm>
            <a:off x="900000" y="18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речень элементов, используемых для благоустройства дворовой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50920" y="905040"/>
          <a:ext cx="8497800" cy="5773680"/>
        </p:xfrm>
        <a:graphic>
          <a:graphicData uri="http://schemas.openxmlformats.org/drawingml/2006/table">
            <a:tbl>
              <a:tblPr/>
              <a:tblGrid>
                <a:gridCol w="1144440"/>
                <a:gridCol w="6703920"/>
                <a:gridCol w="649440"/>
              </a:tblGrid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ван на металлических ножк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на металл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ван на ж/б ножк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на ж/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8" name="Picture 1" descr="001114 - Ð£ÑÐ½Ð° Ð¶ÐµÐ»ÐµÐ·Ð¾Ð±ÐµÑÐ¾Ð½Ð½Ð°Ñ"/>
          <p:cNvPicPr/>
          <p:nvPr/>
        </p:nvPicPr>
        <p:blipFill>
          <a:blip r:embed="rId1"/>
          <a:stretch/>
        </p:blipFill>
        <p:spPr>
          <a:xfrm>
            <a:off x="6443640" y="522936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" descr="https://ksil74.ru/assets/images/products/573/22101.gif"/>
          <p:cNvPicPr/>
          <p:nvPr/>
        </p:nvPicPr>
        <p:blipFill>
          <a:blip r:embed="rId2"/>
          <a:stretch/>
        </p:blipFill>
        <p:spPr>
          <a:xfrm>
            <a:off x="6443640" y="1844640"/>
            <a:ext cx="1257480" cy="897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001213 - Урна металлическая "/>
          <p:cNvPicPr/>
          <p:nvPr/>
        </p:nvPicPr>
        <p:blipFill>
          <a:blip r:embed="rId3"/>
          <a:stretch/>
        </p:blipFill>
        <p:spPr>
          <a:xfrm>
            <a:off x="6732720" y="2852640"/>
            <a:ext cx="942840" cy="943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002105 - Диван садово-парковый на железобетонных ножках"/>
          <p:cNvPicPr/>
          <p:nvPr/>
        </p:nvPicPr>
        <p:blipFill>
          <a:blip r:embed="rId4"/>
          <a:stretch/>
        </p:blipFill>
        <p:spPr>
          <a:xfrm>
            <a:off x="6372360" y="38606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5T07:04:14Z</dcterms:created>
  <dc:creator>adm</dc:creator>
  <dc:description/>
  <dc:language>en-US</dc:language>
  <cp:lastModifiedBy>Сергей</cp:lastModifiedBy>
  <dcterms:modified xsi:type="dcterms:W3CDTF">2020-10-05T20:12:46Z</dcterms:modified>
  <cp:revision>43</cp:revision>
  <dc:subject/>
  <dc:title>ДИЗАЙН-ПРОЕКТ ДВОРОВОЙ ТЕРРИТОРИИ</dc:title>
</cp:coreProperties>
</file>