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96D-6CFC-4E9C-ACE9-C46F24AB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BAA-D92A-481B-A62F-D06E1BAD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4D3-56D9-44D0-B1F8-7B6FB8A2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165-F6B1-4D8D-809C-8DEC3CC4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452F-A837-427A-9FD8-1A96F29F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1CC7-3DB4-486E-8139-49E00775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2916-1155-4667-94A9-05D7445D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30FC-92BF-4E10-B336-4F007F85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3C8-86B0-426A-B794-18F730AB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422-4175-4A0F-AEEE-10A6134F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D9B5-A035-481B-9BA1-1837284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1A6-CBB9-41DF-A398-7907B653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688-ACB5-4187-A9D6-8FF2DE9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13C3-C0EC-4446-8246-891C4F5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9BB3-7A28-4961-ADBB-77E65D6F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D08-2866-4F6B-B266-80941904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422E-E917-40EF-9428-DE9FD0A7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0AF5A-2D5E-49E6-9007-757FFE6F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CCA92-47F5-443F-8159-DE38631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BF490-0F22-40BF-8AB5-2A2B1F0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58A7E-9EAB-4832-8B3C-1C4969B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C3AF4-B40B-4FCB-85D5-4DAEA86D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C67-0CF1-40BE-A0FA-543FBB95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2C40D-D003-4D60-809B-DFEE5F74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A7BC3-9109-46F6-9B4D-40B4AAF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C1D06-0A68-4C5F-BCCA-3D91A382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9FD4B-54D0-4F60-90B0-9461B68B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9881F-4651-4423-8424-EDA0FA43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1A1E6-8801-4CE3-8779-80C1E042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EB03A-92FF-4A1D-95F8-1EFF3C5B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91B3-0CF5-4083-8272-65D553C7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0116-720C-4F70-B88E-6EB02A5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0136-4B84-43D9-B463-049104C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BC3-20D1-4824-AF13-94D5A19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A616-5E45-4F2C-8EF9-8A8AB6E7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6DF5-AC62-4DFA-82F6-1DD37D2B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C551-97F1-446E-AC6A-8F9D964B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DBB89-1B53-42C8-B969-22A292D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FE0B-C071-4116-B9E6-467ADAE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3401F-45EE-4FD6-BE1C-0BF926D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EEF29-289E-4C05-A242-301DA4BD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9488-6B8E-4CA6-8D09-E6C370FC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2C915-6437-46DD-AB84-4569C061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7AE93-A74D-425C-9246-6E249900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9DE-AB38-443D-BBA6-13F7B94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DCABF-1906-40EE-8EC7-90B32AA6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62F13-6AB0-464A-A3FC-ACD88E17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C9116-6411-4920-ACCC-E303C0EE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8652E-FAED-4E8D-AFEC-5C2FEC8C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D88CD-58C5-4FDA-8848-E94B299D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12F2F-9A98-4E89-89DD-91107B3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EB3B7-6EBC-4576-AE58-819263A6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7F73D-BC9E-4671-860B-B8A5632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E97FA-26E0-4C40-9669-5A0300D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CAE8A-4DE5-4C66-89D1-2FB6CC9A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8DA-FD87-4CBF-A7C6-AA275A50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0D60D-3055-490C-B5F1-39844411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95B4B-19E0-472A-AB6C-03E6D1F4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F778B-E667-4D55-9A8D-7F359FC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A7429-FD04-4235-A6E0-BB372E36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AFC7E-EBF4-4FB3-A586-45482140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B2D1B-09BB-4B93-BFDF-FD07A6D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89926-C607-463F-A940-8F069915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8EC90-00C2-446F-8425-BFC79CB0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046D5-8885-4AC7-8EBA-E198372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2B0C8-41FF-4429-BC69-DE3B13A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682-BC6F-4FB1-98F2-8AFF1534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5057A-093D-43BF-9536-72215257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57E3F-5503-4E8D-B4C3-1C967BD7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459BA-AEAE-4954-945A-600BD0D8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B0320-01DE-47E5-A69F-090D8122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9BC33-B453-4DE0-BF65-493FCC0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41CAB-B850-4A7F-8B32-EDFC70E9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22185-C643-4F18-A8B1-DA0AEC6B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22969-31AB-4439-8556-6046B21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E5884-6B0A-45CB-826E-9AC2A24F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93D9F-B61D-4EE2-B654-E3C17A3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3F7-8B5D-417F-846C-9272822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38380-25E0-4BED-9FA0-7E653155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6DF60-35AD-4FC8-8543-A37EACDB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65685-AB2C-4577-92A0-2BDA7493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1AEDF-F318-4790-B8BC-0624D25F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23969-2637-4817-AB7A-94EB2A2F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AA1-72C9-46C4-AC96-ED81D92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3FC1-8251-4946-AAC9-5A77EBDC7D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E8BD-1FD4-4146-91E1-48AFDE23CF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04D2-B78D-4CD4-8B4B-B1194C3D81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C928-61B2-4600-90DF-AF633DB482B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840E-4739-4FFD-B72F-DA48ABB403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B00-E9A0-40A9-8DDA-2FD6221F35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BA3-1F94-4A8E-B96F-82EA1BD6DC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hyperlink" Target="https://ledpremium.ru/upload/iblock/9a9/a_61993.jpg" TargetMode="Externa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1722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ДИЗАЙН-ПРОЕКТ 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БЩЕСТВЕННОЙ ТЕРРИТОРИИ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В РАМКАХ РЕАЛИЗАЦИИ ПРОГРАММЫ «ФОРМИРОВАНИЕ СОВРЕМЕННОЙ ГОРОДСКОЙ СРЕДЫ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692360" y="5003640"/>
            <a:ext cx="590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.Краснооктябрьск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л.Краснооктябрьская 6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 rot="5400000">
            <a:off x="6970680" y="4427640"/>
            <a:ext cx="2576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и Вожгаль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____________№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056"/>
          <p:cNvSpPr/>
          <p:nvPr/>
        </p:nvSpPr>
        <p:spPr>
          <a:xfrm>
            <a:off x="900000" y="189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остояние парка в настояще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4" descr="Общий вид.jpg"/>
          <p:cNvPicPr/>
          <p:nvPr/>
        </p:nvPicPr>
        <p:blipFill>
          <a:blip r:embed="rId1"/>
          <a:stretch/>
        </p:blipFill>
        <p:spPr>
          <a:xfrm>
            <a:off x="179280" y="836640"/>
            <a:ext cx="875988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3" descr="Слева.jpg"/>
          <p:cNvPicPr/>
          <p:nvPr/>
        </p:nvPicPr>
        <p:blipFill>
          <a:blip r:embed="rId1"/>
          <a:stretch/>
        </p:blipFill>
        <p:spPr>
          <a:xfrm>
            <a:off x="0" y="0"/>
            <a:ext cx="4194000" cy="44528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5" descr="Справа.jpg"/>
          <p:cNvPicPr/>
          <p:nvPr/>
        </p:nvPicPr>
        <p:blipFill>
          <a:blip r:embed="rId2"/>
          <a:stretch/>
        </p:blipFill>
        <p:spPr>
          <a:xfrm>
            <a:off x="3630600" y="1643040"/>
            <a:ext cx="55134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056"/>
          <p:cNvSpPr/>
          <p:nvPr/>
        </p:nvSpPr>
        <p:spPr>
          <a:xfrm>
            <a:off x="900000" y="189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3d01"/>
                </a:solidFill>
                <a:latin typeface="Century Schoolbook"/>
              </a:rPr>
              <a:t>Фактическое состояние п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981000"/>
            <a:ext cx="746748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к был заложен в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190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году при установке памятника дважды герою социалистического труда Петру Алексеевичу Прозорову – председателю колхоза «Красный Октябрь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настоящее время деревья в парке устарели. Они имеют неприглядный вид, являются аварийными. Бывают случаи падения деревь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к востребован для отдыха. В поселке Краснооктябрьский проживает более одной тысячи челове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етнее время в парке гуляют дети, молодые мамы с младенцами. Часто проводятся мероприятия на открытом воздух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2056"/>
          <p:cNvSpPr/>
          <p:nvPr/>
        </p:nvSpPr>
        <p:spPr>
          <a:xfrm>
            <a:off x="90000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кет благоустройства общественной территории (парка) в п.Краснооктябрьский, ул.Краснооктябрьская 6А. Вид свер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Рисунок 4" descr="Парк Краснооктябрьская 6А сверху.jpg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2056"/>
          <p:cNvSpPr/>
          <p:nvPr/>
        </p:nvSpPr>
        <p:spPr>
          <a:xfrm>
            <a:off x="90000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кет благоустройства общественной территории (парка) в п.Краснооктябрьский, ул.Краснооктябрьская 6А. Вид сб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Рисунок 3" descr="Парк Краснооктябрьская 6А со стороны.jpg"/>
          <p:cNvPicPr/>
          <p:nvPr/>
        </p:nvPicPr>
        <p:blipFill>
          <a:blip r:embed="rId1"/>
          <a:stretch/>
        </p:blipFill>
        <p:spPr>
          <a:xfrm>
            <a:off x="179280" y="1341360"/>
            <a:ext cx="8820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2056"/>
          <p:cNvSpPr/>
          <p:nvPr/>
        </p:nvSpPr>
        <p:spPr>
          <a:xfrm>
            <a:off x="90000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словные обозначения и перечень элементов, используемых для благоустройства общественной территории (пар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68360" y="981000"/>
          <a:ext cx="8137440" cy="5545080"/>
        </p:xfrm>
        <a:graphic>
          <a:graphicData uri="http://schemas.openxmlformats.org/drawingml/2006/table">
            <a:tbl>
              <a:tblPr/>
              <a:tblGrid>
                <a:gridCol w="5302080"/>
                <a:gridCol w="1663920"/>
                <a:gridCol w="1171440"/>
              </a:tblGrid>
              <a:tr h="67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сч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мья на ж/б нож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1" descr="002102 - Скамья садово-парковая на железобетонных ножках"/>
          <p:cNvPicPr/>
          <p:nvPr/>
        </p:nvPicPr>
        <p:blipFill>
          <a:blip r:embed="rId1"/>
          <a:stretch/>
        </p:blipFill>
        <p:spPr>
          <a:xfrm>
            <a:off x="4140360" y="378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001157 - Ваза железобетонная"/>
          <p:cNvPicPr/>
          <p:nvPr/>
        </p:nvPicPr>
        <p:blipFill>
          <a:blip r:embed="rId2"/>
          <a:srcRect l="0" t="22337" r="0" b="0"/>
          <a:stretch/>
        </p:blipFill>
        <p:spPr>
          <a:xfrm>
            <a:off x="4356000" y="5516640"/>
            <a:ext cx="1086120" cy="84456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21" descr="Брусчатка.jpg"/>
          <p:cNvPicPr/>
          <p:nvPr/>
        </p:nvPicPr>
        <p:blipFill>
          <a:blip r:embed="rId3"/>
          <a:stretch/>
        </p:blipFill>
        <p:spPr>
          <a:xfrm>
            <a:off x="4500720" y="1844640"/>
            <a:ext cx="704520" cy="7254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2" descr="Газон.jpg"/>
          <p:cNvPicPr/>
          <p:nvPr/>
        </p:nvPicPr>
        <p:blipFill>
          <a:blip r:embed="rId4"/>
          <a:stretch/>
        </p:blipFill>
        <p:spPr>
          <a:xfrm>
            <a:off x="4500720" y="285264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056"/>
          <p:cNvSpPr/>
          <p:nvPr/>
        </p:nvSpPr>
        <p:spPr>
          <a:xfrm>
            <a:off x="90000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словные обозначения и перечень элементов, используемых для благоустройства общественной территории (пар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1052640"/>
          <a:ext cx="8569440" cy="5545080"/>
        </p:xfrm>
        <a:graphic>
          <a:graphicData uri="http://schemas.openxmlformats.org/drawingml/2006/table">
            <a:tbl>
              <a:tblPr/>
              <a:tblGrid>
                <a:gridCol w="5585040"/>
                <a:gridCol w="1751040"/>
                <a:gridCol w="1233360"/>
              </a:tblGrid>
              <a:tr h="722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со скамьями и навес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ан на ж/б нож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ан-кач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2" name="Picture 3" descr="002105 - Диван садово-парковый на железобетонных ножках"/>
          <p:cNvPicPr/>
          <p:nvPr/>
        </p:nvPicPr>
        <p:blipFill>
          <a:blip r:embed="rId1"/>
          <a:stretch/>
        </p:blipFill>
        <p:spPr>
          <a:xfrm>
            <a:off x="4067280" y="3500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002603 - Стол со скамьями и навесом детский"/>
          <p:cNvPicPr/>
          <p:nvPr/>
        </p:nvPicPr>
        <p:blipFill>
          <a:blip r:embed="rId2"/>
          <a:stretch/>
        </p:blipFill>
        <p:spPr>
          <a:xfrm>
            <a:off x="4140360" y="1844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002607 - Диван"/>
          <p:cNvPicPr/>
          <p:nvPr/>
        </p:nvPicPr>
        <p:blipFill>
          <a:blip r:embed="rId3"/>
          <a:stretch/>
        </p:blipFill>
        <p:spPr>
          <a:xfrm>
            <a:off x="4284720" y="5084640"/>
            <a:ext cx="13669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056"/>
          <p:cNvSpPr/>
          <p:nvPr/>
        </p:nvSpPr>
        <p:spPr>
          <a:xfrm>
            <a:off x="900000" y="189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словные обозначения и перечень элементов, используемых для благоустройства общественной территории (пар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79280" y="1268280"/>
          <a:ext cx="8496360" cy="5400720"/>
        </p:xfrm>
        <a:graphic>
          <a:graphicData uri="http://schemas.openxmlformats.org/drawingml/2006/table">
            <a:tbl>
              <a:tblPr/>
              <a:tblGrid>
                <a:gridCol w="3113280"/>
                <a:gridCol w="2692440"/>
                <a:gridCol w="1579320"/>
                <a:gridCol w="1111320"/>
              </a:tblGrid>
              <a:tr h="6210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ль "Гнездо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со скамьями без нав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на ж/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ильник садово-парковый 6215 столб 3*100W E27 230V, че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7" name="Picture 5" descr="004158 - Качели на металлических стойках с оцинкованной балкой &quot;Гнездо&quot;"/>
          <p:cNvPicPr/>
          <p:nvPr/>
        </p:nvPicPr>
        <p:blipFill>
          <a:blip r:embed="rId1"/>
          <a:stretch/>
        </p:blipFill>
        <p:spPr>
          <a:xfrm>
            <a:off x="4284720" y="1989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002605 - Стол со скамьями без навеса"/>
          <p:cNvPicPr/>
          <p:nvPr/>
        </p:nvPicPr>
        <p:blipFill>
          <a:blip r:embed="rId2"/>
          <a:stretch/>
        </p:blipFill>
        <p:spPr>
          <a:xfrm>
            <a:off x="3924360" y="335772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001112 - Урна железобетонная"/>
          <p:cNvPicPr/>
          <p:nvPr/>
        </p:nvPicPr>
        <p:blipFill>
          <a:blip r:embed="rId3"/>
          <a:stretch/>
        </p:blipFill>
        <p:spPr>
          <a:xfrm>
            <a:off x="4716360" y="4724280"/>
            <a:ext cx="876240" cy="876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001112 - Урна железобетонная"/>
          <p:cNvPicPr/>
          <p:nvPr/>
        </p:nvPicPr>
        <p:blipFill>
          <a:blip r:embed="rId4"/>
          <a:stretch/>
        </p:blipFill>
        <p:spPr>
          <a:xfrm>
            <a:off x="2276640" y="4390920"/>
            <a:ext cx="877680" cy="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001112 - Урна железобетонная"/>
          <p:cNvPicPr/>
          <p:nvPr/>
        </p:nvPicPr>
        <p:blipFill>
          <a:blip r:embed="rId5"/>
          <a:stretch/>
        </p:blipFill>
        <p:spPr>
          <a:xfrm>
            <a:off x="2276640" y="4390920"/>
            <a:ext cx="877680" cy="3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5" descr="Светильник садово-парковый 6215 столб 3*100W E27 230V, черны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08360" y="5589720"/>
            <a:ext cx="14572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5T07:04:14Z</dcterms:created>
  <dc:creator>adm</dc:creator>
  <dc:description/>
  <dc:language>en-US</dc:language>
  <cp:lastModifiedBy>1</cp:lastModifiedBy>
  <dcterms:modified xsi:type="dcterms:W3CDTF">2020-10-06T05:45:47Z</dcterms:modified>
  <cp:revision>62</cp:revision>
  <dc:subject/>
  <dc:title>ДИЗАЙН-ПРОЕКТ ДВОРОВОЙ ТЕРРИТОРИИ</dc:title>
</cp:coreProperties>
</file>